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A9B9-3D0D-456F-B779-EB66C5F98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86CA-47CE-46DA-BC14-7663D4A2E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31AE-AACE-41D8-98E9-E636955D5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36E0-B665-4E87-B6EE-7E1B781A1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AA13-66E7-417E-A18B-0C996755E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CBFE-0A78-4266-A765-54A3CB4E9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7CCD-CF1A-4769-9BDF-378413161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5F83-7BEA-4CFC-839A-2E67CAFFF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F6CA-55B3-46B5-A8AB-04850CC30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36DA-8409-42AB-BA10-504901B4B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98D8-2421-4AA3-9F06-B3CE7BE88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0D74-F06F-44A4-92D5-A9EB884BA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8B13-43D8-4B91-A50A-08F2E4905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A1C-F2A9-444F-B405-FAF94921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9B8-B727-48EC-A303-C26A4D17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F7A-A445-4918-B3C0-D86DB81D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65B-4202-4569-90DE-4A6A3698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041-C385-47CE-9E4D-C79648F9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73A-97C6-4DFC-8FD0-9DFC9F09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FF5-3213-4614-B51E-B2857C2D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171-FC90-4FF5-80CE-1A4D4037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FC7-E8C4-4FDA-8523-DE21B23B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958-8049-44C6-A61A-5C7912A7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102-B20A-449B-96E2-6C4B2FCD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043-8E00-457C-99AF-EE8A5754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E94C-AC38-49E9-BFA2-E16B1D327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faculty.washington.edu/moral/images/Giberli.jpg&amp;imgrefurl=http://faculty.washington.edu/moral/book.html&amp;h=534&amp;w=793&amp;prev=/images%3Fq%3Dprimary%2Bsuccession%26svnum%3D10%26hl%3Den%26lr%3D%26ie%3DUTF-8%26oe%3DUTF-8%26sa%3D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life.uiuc.edu/bio100/lectures/s97lects/05Succession/fire.GIF&amp;imgrefurl=http://www.life.uiuc.edu/bio100/lectures/sp98lects/05s98-succession.html&amp;h=408&amp;w=284&amp;prev=/images%3Fq%3Dsecondary%2Bsuccession%26svnum%3D10%26hl%3Den%26lr%3D%26ie%3DUTF-8%26oe%3DUTF-8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www.nybg.org/bsci/french_guiana/secsucc1.jpg&amp;imgrefurl=http://www.nybg.org/bsci/french_guiana/bat_disp.html&amp;h=201&amp;w=280&amp;prev=/images%3Fq%3Dsecondary%2Bsuccession%26svnum%3D10%26hl%3Den%26lr%3D%26ie%3DUTF-8%26oe%3DUTF-8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apter 10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cological Rest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28600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logical Suc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covery (to state prior to human disturbance) is possible if damage is not too 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 good understanding of natural succession to facilitate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ation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fficult on lands that ha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organic matter due to leaching, over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n subjected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ultimate f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max 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last forever with no disturb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 loss of nutrients in soil, slow biological deteri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8007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to be a balance 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ition of nutr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ecosystem as living things grow and die and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The climax state appears not to exist indefini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ioration appears t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446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kinds of succe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ary succ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tablishment of an ecosystem where there was none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Giberl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304920"/>
            <a:ext cx="3886200" cy="2784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6"/>
          <p:cNvSpPr/>
          <p:nvPr/>
        </p:nvSpPr>
        <p:spPr>
          <a:xfrm>
            <a:off x="5257800" y="3200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eating glac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Image21"/>
          <p:cNvPicPr/>
          <p:nvPr/>
        </p:nvPicPr>
        <p:blipFill>
          <a:blip r:embed="rId3"/>
          <a:stretch/>
        </p:blipFill>
        <p:spPr>
          <a:xfrm>
            <a:off x="0" y="2743200"/>
            <a:ext cx="4419720" cy="289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t1.gstatic.com/images?q=tbn:ANd9GcQgnI0R1EQVvqqV6H8Y3B2cqbD8SRMefYf4R6LVEosA3vzbMdc&amp;t=1&amp;usg=__hKUJ71SpjAMBsanL-3rjTo_9_Ms="/>
          <p:cNvPicPr/>
          <p:nvPr/>
        </p:nvPicPr>
        <p:blipFill>
          <a:blip r:embed="rId4"/>
          <a:stretch/>
        </p:blipFill>
        <p:spPr>
          <a:xfrm>
            <a:off x="4800600" y="3809880"/>
            <a:ext cx="3924360" cy="233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3240" y="574344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dune suc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4320" y="604836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c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ondary succ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establishment of an ecosystem following disturb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i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2209680"/>
            <a:ext cx="3657600" cy="358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secsucc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133720"/>
            <a:ext cx="419112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838080" y="6095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n abandoned clearing or after a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terns of Species Change During Succ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acili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nter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Life History Dif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hronic Patchi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927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mat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ectotree"/>
          <p:cNvPicPr/>
          <p:nvPr/>
        </p:nvPicPr>
        <p:blipFill>
          <a:blip r:embed="rId1"/>
          <a:stretch/>
        </p:blipFill>
        <p:spPr>
          <a:xfrm>
            <a:off x="4606920" y="1600200"/>
            <a:ext cx="3916440" cy="4084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4648320" y="57913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matter is  soil’s best fri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img006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s store more chemical elements than living things, but cycle much more s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ture ecosystems more elements are stored in the trees/flora and soils may be very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1"/>
          <p:cNvSpPr/>
          <p:nvPr/>
        </p:nvSpPr>
        <p:spPr>
          <a:xfrm>
            <a:off x="914400" y="30492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highph2"/>
          <p:cNvPicPr/>
          <p:nvPr/>
        </p:nvPicPr>
        <p:blipFill>
          <a:blip r:embed="rId1"/>
          <a:stretch/>
        </p:blipFill>
        <p:spPr>
          <a:xfrm>
            <a:off x="228600" y="166680"/>
            <a:ext cx="4419720" cy="3216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Quartz Sands"/>
          <p:cNvPicPr/>
          <p:nvPr/>
        </p:nvPicPr>
        <p:blipFill>
          <a:blip r:embed="rId2"/>
          <a:stretch/>
        </p:blipFill>
        <p:spPr>
          <a:xfrm>
            <a:off x="457200" y="3505320"/>
            <a:ext cx="4095720" cy="25905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6"/>
          <p:cNvSpPr/>
          <p:nvPr/>
        </p:nvSpPr>
        <p:spPr>
          <a:xfrm>
            <a:off x="609480" y="607860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 is la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less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0" y="2438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y particles are very small and hold more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drawing of relative particle size - 8.3 K"/>
          <p:cNvPicPr/>
          <p:nvPr/>
        </p:nvPicPr>
        <p:blipFill>
          <a:blip r:embed="rId3"/>
          <a:stretch/>
        </p:blipFill>
        <p:spPr>
          <a:xfrm>
            <a:off x="4952880" y="1447920"/>
            <a:ext cx="3733920" cy="4735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5029200" y="3886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surfac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urbances, such as fire, return elements to soil (highly water soluble) for rapid re-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rooted trees, from st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t2.gstatic.com/images?q=tbn:ANd9GcTsSDILxWtXqVKtA0SmvwDTWx2FIaOY3VhoVhlodwjzwVezrEE&amp;t=1&amp;usg=__8PGOcdI0QzeiNN_4HQD6epmWmMU="/>
          <p:cNvPicPr/>
          <p:nvPr/>
        </p:nvPicPr>
        <p:blipFill>
          <a:blip r:embed="rId1"/>
          <a:stretch/>
        </p:blipFill>
        <p:spPr>
          <a:xfrm>
            <a:off x="4648320" y="350532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ttp://www.messiah.edu/Oakes/fungi_on_wood/club%20and%20coral/images/Tubifera%20ferrLogGE.jpg"/>
          <p:cNvPicPr/>
          <p:nvPr/>
        </p:nvPicPr>
        <p:blipFill>
          <a:blip r:embed="rId2"/>
          <a:stretch/>
        </p:blipFill>
        <p:spPr>
          <a:xfrm>
            <a:off x="762120" y="38862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4:10:22Z</dcterms:created>
  <dc:creator>tosborne</dc:creator>
  <dc:description/>
  <dc:language>en-US</dc:language>
  <cp:lastModifiedBy>tosborne</cp:lastModifiedBy>
  <dcterms:modified xsi:type="dcterms:W3CDTF">2011-10-27T19:53:04Z</dcterms:modified>
  <cp:revision>28</cp:revision>
  <dc:subject/>
  <dc:title>Chapter 9 Succession and Restoration</dc:title>
</cp:coreProperties>
</file>